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AB2-D66A-4CC4-8C62-B434D70D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7EA-E769-4655-B23F-2FE8B1BA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7FC-02C6-434C-BBFC-404466AE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6E6-2C34-45E6-8F13-974823DB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185-47AE-476A-8382-D6E76177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9CB-92A4-4035-80B2-6E00C003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013-0311-4332-AA5E-37F928BA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EB0-70D5-4096-AFC7-06F4EF46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9B1-E8E0-445B-AF38-005415FA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AE6-70BB-4FAC-A3F5-56851741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19C-10E4-4E67-9318-E18FA66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EA4-8A32-4A89-AAE9-57B6F04F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46D4-C3A0-48E0-8358-EE0998F125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228600"/>
            <a:ext cx="891540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She wants them to let her appear </a:t>
            </a:r>
            <a:r>
              <a:rPr b="1" lang="zh-CN" sz="2800" spc="-1" strike="noStrike">
                <a:solidFill>
                  <a:srgbClr val="fc3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on the air, hoping that Huike will see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实况直播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ootball game was broadcast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r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3000"/>
                </a:solidFill>
                <a:latin typeface="Times New Roman"/>
              </a:rPr>
              <a:t>The Oscar ceremony is the biggest, most extravagant live event on televi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70844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3000"/>
                </a:solidFill>
                <a:latin typeface="Times New Roman"/>
              </a:rPr>
              <a:t>奥斯卡颁奖典礼是最大、最铺张的电视实况转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54:24Z</dcterms:created>
  <dc:creator>user</dc:creator>
  <dc:description/>
  <dc:language>en-US</dc:language>
  <cp:lastModifiedBy>user</cp:lastModifiedBy>
  <dcterms:modified xsi:type="dcterms:W3CDTF">2003-09-18T02:54:42Z</dcterms:modified>
  <cp:revision>1</cp:revision>
  <dc:subject/>
  <dc:title>PowerPoint 演示文稿</dc:title>
</cp:coreProperties>
</file>